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048-2322-4328-8343-4615B29C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079-D17E-4A0C-93B2-0FCB984A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57A-9A6B-417D-ADA8-036E003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A11-FC1D-451E-92E7-D6E7156C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393-98DE-4A61-B74C-D3619A1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D8F-A4FA-4C5C-B7EF-0BF93EE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856-2100-4FE0-A9D4-0B914EB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B8E-2BF0-400C-A9C9-BBEA044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9D5-2538-4B68-927B-252CA6F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668-5085-412F-A871-4E3FD04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9A5-9030-42AF-BF36-9861CE7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4A3-7327-4B57-956C-C5D1915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320-E78A-4CDC-BDE6-0945F06AC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2680" y="380880"/>
            <a:ext cx="4238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885960"/>
            <a:ext cx="4876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3280" y="762120"/>
            <a:ext cx="345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3280" y="762120"/>
            <a:ext cx="345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762120"/>
            <a:ext cx="445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09600" y="-361800"/>
            <a:ext cx="6724800" cy="7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43360" y="-428760"/>
            <a:ext cx="325728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81240" y="-857160"/>
            <a:ext cx="478152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6440" y="-895320"/>
            <a:ext cx="7791120" cy="86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76520" y="-380880"/>
            <a:ext cx="39909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0120" y="-1419120"/>
            <a:ext cx="7943760" cy="96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8560" y="1209600"/>
            <a:ext cx="4466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81240" y="838080"/>
            <a:ext cx="478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23:57:44Z</dcterms:created>
  <dc:creator>heather</dc:creator>
  <dc:description/>
  <dc:language>en-US</dc:language>
  <cp:lastModifiedBy>HBrown</cp:lastModifiedBy>
  <dcterms:modified xsi:type="dcterms:W3CDTF">2006-06-07T17:21:08Z</dcterms:modified>
  <cp:revision>2</cp:revision>
  <dc:subject/>
  <dc:title>Slide 1</dc:title>
</cp:coreProperties>
</file>